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1DB-B25F-4021-A9DB-FA7BCC67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95B-A0C0-4D9C-867D-0313BF21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CBF-1B04-43FB-B956-4D20BC4A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35-D79F-449C-8874-06F5D45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F00-3CFC-4129-AAB1-940B0C9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FE3-1BA1-47A5-B86D-630C8A08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CD5-6C76-4ADB-AA20-318AA05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860-D0E4-4964-B330-CEE45D1A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F8F-A3F0-419E-8AB0-6F58D76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40D-E2ED-468F-BF07-EEF0834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76B-99F5-41DD-ABA6-EAE0245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36A-32CC-42A2-BF6C-8784839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7F3-AC15-4B06-B8B8-94A44569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4 Outcome 1, Spreadshee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s and Information Needs, Ch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of information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ecisions: (revised) strategic, tactical and operational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 is a process for identifying long term goals within a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a set of common goals that will help accomplish the organisations a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are small achievable tasks undertaken to accomplish a bi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/w goals of non-profit &amp; for-profi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goals: efficiency, improving effectiveness, improving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, Cost, Time &amp;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ective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 of output, accuracy, presentation &amp; comprehen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proved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quires 3 factors, sufficient nformation, communication and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H/W &amp; S/W components of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sheet Software, formats &amp;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right aligned i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ney values usually have two decimal places or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ubtotals have a single line above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nd totals have a single or double line below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nd totals are in b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phs and charts must have titles identifying the name of the organisation and purpose of the graph or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 and y axis must be lab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mit the number of items represented in a chart to five or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e a page on a sheet horizo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riefly explain the purpose of the spreadsheet and identif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here cells require user input, clearly label what has to be entered, left sid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st all equations used in a separat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sheets,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checking, use of I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ce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 checking, eg. integers, date, alignment of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data entry, drop 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alerts, pop up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&amp;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– input; testing is output; testing also checking electronic val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, eg. test formulas &amp; functions, eg. test both upper &amp; lower boundaries of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udience, difficult t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formats &amp;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ccessible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links work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eets clearly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rs accidentally delete formulas or chance validation rules; input cells un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olution open at right w/sh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s easy to read; limited use of red &amp;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nformation clear &amp;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24:28Z</dcterms:created>
  <dc:creator>Kelvin Baird</dc:creator>
  <dc:description/>
  <dc:language>en-US</dc:language>
  <cp:lastModifiedBy>Kelvin Baird</cp:lastModifiedBy>
  <dcterms:modified xsi:type="dcterms:W3CDTF">2007-06-20T22:01:46Z</dcterms:modified>
  <cp:revision>2</cp:revision>
  <dc:subject/>
  <dc:title>Unit 4 Outcome 1, Spreadsheet software</dc:title>
</cp:coreProperties>
</file>